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79B7C-FB31-44C5-B65C-498759BEE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5DB1D-46AD-4809-B509-8155BA95A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46FA0-9106-4458-A625-463412EC0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6A8CD-0995-4A57-B560-765BD62B9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6F06E-B028-4298-8D23-F016B942D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D94A0-7457-423A-8F72-B86E4DD28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EA2DA-3F6D-459C-BF17-4BFC93F85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592E9-504D-4C03-9D5F-E57AE5558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4FAAC-B0F5-4CC7-8F07-282126B55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A66D3-9938-4E63-84A3-657F4F9AC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DE18F-EF89-4986-B72F-6242F0536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582B7-72C6-4068-88DC-10CB9EA94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2087C-08C0-4A71-8C66-13554C6E63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29 Keď divy tvojej moci zrie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vit luny, tichý vánok z hôr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vuk hromu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táčích piesní chór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len tebe chválu vzdáv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šak najväčší je lásky čin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ar nevýslovnej ceny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e Spasiteľ, tvoj milý Syn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a k hriešnej sklonil zemi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a lásku tvoju preveľkú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o milosť dáva človeku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ech vždy ťa každý chváli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eď divy tvojej moci zrie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ôj Tvorca a môj Pane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iel tvojich taj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kúmať smie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rať dary z tvojej dlane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u naplnený úžaso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a v bázni pýtam: Čože so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e na mňa myslíš stále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Reč tvojich činov pre mňa j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iv nekonečnej lásky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vit hviezd, čo noci zjasňuj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vet skromnej sedmokrásk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y pokrm dávaš, tíšiš smäd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usmerňuješ svetov let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ad všetkým mocne vládneš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j búrku, víchor ovládaš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moru staviaš hrádze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 všetko tvorstvo starosť máš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káš krásu z kvetov priadz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D</cp:lastModifiedBy>
  <dcterms:modified xsi:type="dcterms:W3CDTF">2000-10-11T19:00:06Z</dcterms:modified>
  <cp:revision>29</cp:revision>
  <dc:subject/>
  <dc:title>Je veľký náš Pán, on slávy je Kráľ Nech do všetkých strán  spev vrúcnych znie chvál.</dc:title>
</cp:coreProperties>
</file>